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013" spc="-1" strike="noStrike">
                <a:solidFill>
                  <a:srgbClr val="000000"/>
                </a:solidFill>
                <a:latin typeface="Arial"/>
              </a:defRPr>
            </a:pPr>
            <a:r>
              <a:rPr b="0" sz="2013" spc="-1" strike="noStrike">
                <a:solidFill>
                  <a:srgbClr val="000000"/>
                </a:solidFill>
                <a:latin typeface="Arial"/>
              </a:rPr>
              <a:t>Ezequiel Balbino</a:t>
            </a:r>
          </a:p>
        </c:rich>
      </c:tx>
      <c:layout>
        <c:manualLayout>
          <c:xMode val="edge"/>
          <c:yMode val="edge"/>
          <c:x val="0.387032006613913"/>
          <c:y val="0.020058174766694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811070430298"/>
          <c:y val="0.120470246030784"/>
          <c:w val="0.751112160938546"/>
          <c:h val="0.83917100957459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Ezequiel Balbino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2009 março</c:v>
                </c:pt>
                <c:pt idx="1">
                  <c:v>2009 abril</c:v>
                </c:pt>
                <c:pt idx="2">
                  <c:v>2009 maio</c:v>
                </c:pt>
                <c:pt idx="3">
                  <c:v>2009 junh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36.96</c:v>
                </c:pt>
                <c:pt idx="1">
                  <c:v>30.83</c:v>
                </c:pt>
                <c:pt idx="2">
                  <c:v>91.41</c:v>
                </c:pt>
                <c:pt idx="3">
                  <c:v>97.5</c:v>
                </c:pt>
              </c:numCache>
            </c:numRef>
          </c:val>
        </c:ser>
        <c:gapWidth val="100"/>
        <c:overlap val="0"/>
        <c:axId val="81608612"/>
        <c:axId val="64638043"/>
      </c:barChart>
      <c:catAx>
        <c:axId val="8160861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38043"/>
        <c:crossesAt val="0"/>
        <c:auto val="1"/>
        <c:lblAlgn val="ctr"/>
        <c:lblOffset val="100"/>
        <c:noMultiLvlLbl val="0"/>
      </c:catAx>
      <c:valAx>
        <c:axId val="64638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0861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9118932325499"/>
          <c:y val="0.45527814810326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38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3155" spc="-1" strike="noStrike">
                <a:solidFill>
                  <a:srgbClr val="000000"/>
                </a:solidFill>
                <a:latin typeface="Arial"/>
              </a:defRPr>
            </a:pPr>
            <a:r>
              <a:rPr b="0" sz="3155" spc="-1" strike="noStrike">
                <a:solidFill>
                  <a:srgbClr val="000000"/>
                </a:solidFill>
                <a:latin typeface="Arial"/>
              </a:rPr>
              <a:t>Ezequiel Balbino 2009</a:t>
            </a:r>
          </a:p>
        </c:rich>
      </c:tx>
      <c:layout>
        <c:manualLayout>
          <c:xMode val="edge"/>
          <c:yMode val="edge"/>
          <c:x val="0.291366481634581"/>
          <c:y val="0.020054441419921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04755718279"/>
          <c:y val="0.145714126992945"/>
          <c:w val="0.731309790953112"/>
          <c:h val="0.81417699016721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3</c:v>
                </c:pt>
                <c:pt idx="1">
                  <c:v>120</c:v>
                </c:pt>
                <c:pt idx="2">
                  <c:v>138</c:v>
                </c:pt>
                <c:pt idx="3">
                  <c:v>120</c:v>
                </c:pt>
                <c:pt idx="4">
                  <c:v>42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17</c:v>
                </c:pt>
                <c:pt idx="1">
                  <c:v>37</c:v>
                </c:pt>
                <c:pt idx="2">
                  <c:v>117</c:v>
                </c:pt>
                <c:pt idx="3">
                  <c:v>117</c:v>
                </c:pt>
                <c:pt idx="4">
                  <c:v>288</c:v>
                </c:pt>
              </c:numCache>
            </c:numRef>
          </c:val>
        </c:ser>
        <c:gapWidth val="100"/>
        <c:overlap val="0"/>
        <c:axId val="37089582"/>
        <c:axId val="97060644"/>
      </c:barChart>
      <c:catAx>
        <c:axId val="3708958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60644"/>
        <c:crossesAt val="0"/>
        <c:auto val="1"/>
        <c:lblAlgn val="ctr"/>
        <c:lblOffset val="100"/>
        <c:noMultiLvlLbl val="0"/>
      </c:catAx>
      <c:valAx>
        <c:axId val="97060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8958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71190110625566"/>
          <c:y val="0.399866674073663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941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B51-7B15-4CAD-81BB-B9B90F23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6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347000"/>
            <a:ext cx="8496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430-1280-4C4C-9884-54EFB296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3470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43470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F1E-D0A2-414B-803F-5F7AED54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22032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22032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3470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43470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43470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B9D-EFFD-407C-8B4E-D2FF6955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6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6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8920" y="42840"/>
            <a:ext cx="705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43470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6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8F2-AB4B-4C68-8112-AA717518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8760" y="43470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4347000"/>
            <a:ext cx="8496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6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4347000"/>
            <a:ext cx="8496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43470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8760" y="43470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7720" y="22032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0520" y="22032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43470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7720" y="43470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0520" y="43470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6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C5C-9AD2-4F9D-AB62-9FAD2719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C13-32E3-4A45-983B-63E8AE0A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786-9595-467C-9DEB-C063E91C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8920" y="42840"/>
            <a:ext cx="705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C9B-2A17-48AA-88CC-C95A76CE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3470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990-9A9C-463F-85A7-B3DCD73F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43470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680-4E17-4FA2-9DFA-E3E07AB3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347000"/>
            <a:ext cx="8496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713-5EAF-408D-B9CD-43E33ADF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6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200" y="6435720"/>
            <a:ext cx="11602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9/07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560" y="6435720"/>
            <a:ext cx="52560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920" y="6435720"/>
            <a:ext cx="5382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E18BF6-EC84-4906-8B5A-4E53E0EB55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6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home/welitton/Documentos/segundo%20semestre%2009/Reuni&#245;es/Cronograma%20-%20PNTE.doc" TargetMode="External"/><Relationship Id="rId3" Type="http://schemas.openxmlformats.org/officeDocument/2006/relationships/hyperlink" Target="file:///home/welitton/Documentos/segundo%20semestre%2009/Reuni&#245;es/Cronograma%20-%20PSTE.doc" TargetMode="External"/><Relationship Id="rId4" Type="http://schemas.openxmlformats.org/officeDocument/2006/relationships/hyperlink" Target="file:///home/welitton/Documentos/segundo%20semestre%2009/Reuni&#245;es/Cronograma%20-%20completo.doc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32000" y="1197000"/>
            <a:ext cx="6481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E EZEQUIEL BALBINO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NAURILÂNDIA - 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30064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2920" y="-63360"/>
            <a:ext cx="70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ados conclu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917640"/>
          <a:ext cx="9144000" cy="59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360360"/>
          <a:ext cx="9144000" cy="64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-322200"/>
            <a:ext cx="70567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plano deve conter no máximo 3 aulas, mai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o professor da STE seja questionado e não souber orientar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, os mesmos se comprometerão em buscar apoio junto 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 do 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ronograma de ação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0"/>
            <a:ext cx="70567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3760" y="174600"/>
            <a:ext cx="885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RONOGRAMA DO PLANO DE AÇÃO DOS PSTEs DA EE EZEQUIEL BALB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160" y="596880"/>
          <a:ext cx="9093240" cy="6261120"/>
        </p:xfrm>
        <a:graphic>
          <a:graphicData uri="http://schemas.openxmlformats.org/drawingml/2006/table">
            <a:tbl>
              <a:tblPr/>
              <a:tblGrid>
                <a:gridCol w="3720960"/>
                <a:gridCol w="3213360"/>
                <a:gridCol w="2158920"/>
              </a:tblGrid>
              <a:tr h="367920"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Ê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32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290520"/>
                          <a:tab algn="l" pos="2959200"/>
                          <a:tab algn="l" pos="297972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 básico de informática – internet como ferramenta de pesqu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subsídio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3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290520"/>
                          <a:tab algn="l" pos="2959200"/>
                          <a:tab algn="l" pos="297972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 básico de informática – Impress, e como preparar aulas para ser trabalhada com o Data Sh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subsídio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290520"/>
                          <a:tab algn="l" pos="2959200"/>
                          <a:tab algn="l" pos="297972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 básico de informática – movie m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subsídio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290520"/>
                          <a:tab algn="l" pos="2959200"/>
                          <a:tab algn="l" pos="297972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s avançados – b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subsídio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290520"/>
                          <a:tab algn="l" pos="2959200"/>
                          <a:tab algn="l" pos="297972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s avançados – wikisp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subsídio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ofessores Emidio e Eduar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63640" y="-111240"/>
            <a:ext cx="705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2276640"/>
            <a:ext cx="48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494172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720720"/>
            <a:ext cx="9144000" cy="61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3280" y="-179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71720" y="5072040"/>
            <a:ext cx="278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213372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515772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720720"/>
            <a:ext cx="80996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6840" y="2798640"/>
            <a:ext cx="25131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485640"/>
            <a:ext cx="9144000" cy="63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0360" y="-243000"/>
            <a:ext cx="70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71760" y="4929120"/>
            <a:ext cx="3000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565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486900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720720"/>
            <a:ext cx="914400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-179280"/>
            <a:ext cx="705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680" y="4714920"/>
            <a:ext cx="2857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227664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5157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539640"/>
            <a:ext cx="9180360" cy="63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00:53:38Z</dcterms:created>
  <dc:creator>Luciana Catarino</dc:creator>
  <dc:description/>
  <dc:language>en-US</dc:language>
  <cp:lastModifiedBy>Luciana Catarino</cp:lastModifiedBy>
  <dcterms:modified xsi:type="dcterms:W3CDTF">2009-07-28T20:01:25Z</dcterms:modified>
  <cp:revision>24</cp:revision>
  <dc:subject/>
  <dc:title>EE BRAZ SINIGÁGLIA BATAYPORÃ - MS</dc:title>
</cp:coreProperties>
</file>